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671F-5BE4-41F3-8390-85A97DE936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5FA1-129B-4C17-A941-AC57F07755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F05B5-625B-44F0-978C-7CB7B3AD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DDAA3-AC53-45FD-8877-276D1E9B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D36FB-7300-4177-8960-B2F237E0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B994-5917-4141-A3F4-6D09F4C1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B940-D684-48CB-97EC-E5263079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DFA8-C61E-4864-ABEE-1A31582B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1062-4111-416A-BA48-319C063D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68CA-BF75-48D1-91E5-F7A334B0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D249-409C-4694-A1FC-3648A527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93CC-E8A7-442B-9FAA-90641E69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B8D4-290C-4C58-9B37-670F0826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63B71-CE35-4E8C-A4D2-526CC403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E105-16FA-42AA-82E0-C3991198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4473-D4A9-49FA-8BBD-FD4912D4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BA6B-9332-4F10-AA8A-A0E8B999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BD1F-AF32-4B0B-8EFC-40F64FDB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FF74-173F-46C6-A3E7-0E9F023C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CAA29-D7B2-4464-9EAD-B84BCE49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27AFF-BE27-4157-A7CF-20709A38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3B463-FC58-4AC4-97F9-F8674F46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63B7E-7E13-4C9A-9D68-2A337138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F5F80-99A2-41E0-91EE-46131808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F3FC4-2994-4D4A-B9D9-FBA882AB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37BD3-42FC-4074-BD15-696CFABB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8CBE-924F-462C-8068-0396026854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A4C1-B58E-40FF-BC55-40697F52E7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новы теори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усство как феномен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нятие художественной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е методологические подходы в искусствозна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ы и виды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3.Использование художественных средств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ямые, непосредстве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мимика, поэзия, отчасти - музык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свенные, опосредова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архитектура, скульптура, живопис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Oval 2"/>
          <p:cNvSpPr/>
          <p:nvPr/>
        </p:nvSpPr>
        <p:spPr>
          <a:xfrm>
            <a:off x="2286000" y="3124080"/>
            <a:ext cx="22860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6629400" y="0"/>
            <a:ext cx="0" cy="685800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80880" y="914400"/>
            <a:ext cx="183528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дна из форм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бщественн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сознания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тельност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514600" y="914400"/>
            <a:ext cx="1835280" cy="144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цесс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уха и ру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572000" y="914400"/>
            <a:ext cx="1835280" cy="144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ая форм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ознан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мысления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ценки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04920" y="5181480"/>
            <a:ext cx="1834920" cy="1446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Качество способ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личающе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о одн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ника о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а друг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514600" y="5181480"/>
            <a:ext cx="1835280" cy="144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езульта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–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изведе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572000" y="5181480"/>
            <a:ext cx="1835280" cy="1446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енность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восприят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000" y="3357720"/>
            <a:ext cx="2281320" cy="90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00"/>
                </a:solidFill>
                <a:latin typeface="Garamond"/>
              </a:rPr>
              <a:t>Искусство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1219320" y="2362320"/>
            <a:ext cx="137160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3429000" y="23623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4114800" y="236232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4"/>
          <p:cNvSpPr/>
          <p:nvPr/>
        </p:nvSpPr>
        <p:spPr>
          <a:xfrm flipV="1">
            <a:off x="1219320" y="426708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Line 15"/>
          <p:cNvSpPr/>
          <p:nvPr/>
        </p:nvSpPr>
        <p:spPr>
          <a:xfrm flipV="1">
            <a:off x="3429000" y="44953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16"/>
          <p:cNvSpPr/>
          <p:nvPr/>
        </p:nvSpPr>
        <p:spPr>
          <a:xfrm flipH="1" flipV="1">
            <a:off x="4114800" y="4343400"/>
            <a:ext cx="137160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6629400" y="0"/>
            <a:ext cx="2514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1) искус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действительно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в художественных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бразах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2) ремесло, умение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навык, мастер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творчеств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WordArt 18"/>
          <p:cNvSpPr txBox="1"/>
          <p:nvPr/>
        </p:nvSpPr>
        <p:spPr>
          <a:xfrm>
            <a:off x="7162920" y="7621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4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latin typeface="Arial"/>
              </a:rPr>
              <a:t>Art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Эстетика – о сущност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атериалистическая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imesis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из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отражение, имитация действительности. (Аристотел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526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деалистическая 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Phantasia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во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выражение внутренних чувств вечных истин, сути времени. (Платон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3962160"/>
            <a:ext cx="7769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Функции искусст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Эстет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наково - коммуникатив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носелог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Ценностно-ориентацион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образовательная или созид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спит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гров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едонистическ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520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564000" y="1628640"/>
            <a:ext cx="16761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Искус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2555640" y="1989000"/>
            <a:ext cx="9903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5219640" y="1989000"/>
            <a:ext cx="8384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0" y="3962520"/>
            <a:ext cx="9144000" cy="0"/>
          </a:xfrm>
          <a:prstGeom prst="line">
            <a:avLst/>
          </a:prstGeom>
          <a:ln w="38160">
            <a:solidFill>
              <a:srgbClr val="000514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Зонально-слоевое строение художественной культур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752480"/>
          <a:ext cx="8367840" cy="4432320"/>
        </p:xfrm>
        <a:graphic>
          <a:graphicData uri="http://schemas.openxmlformats.org/drawingml/2006/table">
            <a:tbl>
              <a:tblPr/>
              <a:tblGrid>
                <a:gridCol w="836784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приклад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аторское искусство                                        художественная публицис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словес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музык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актерского словесно-пластического и музыкально-пластическ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пантомимического и танцев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приметно-изобразите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архитектонических бифункциональ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ремесленной базе                                                  На индустриальной баз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59770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Искусствознани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Line 3"/>
          <p:cNvSpPr/>
          <p:nvPr/>
        </p:nvSpPr>
        <p:spPr>
          <a:xfrm flipH="1">
            <a:off x="133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284720" y="1484280"/>
            <a:ext cx="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601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13200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5796000" y="3213000"/>
            <a:ext cx="33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удожествен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т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72720" y="-3220920"/>
            <a:ext cx="71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17928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Теория искусс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2923920"/>
            <a:ext cx="85186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бщает накопленные данные с историософской точки зре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89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История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4000" y="9079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тизирует и описывает наличный и вновь открываемый материал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ет закономерности развития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50920" y="4221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Художественная критик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79280" y="4941720"/>
            <a:ext cx="88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ражает реакцию на произведение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ирует тенденции и  перспективы развития современного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сновные методологические школы искусствознания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тория стилей (Вельфлин, Хаузер, Винкельман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наточество ( Бернсо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учение сюжетов ( Маль, Панофски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ультурно-историческая школа ( Тэ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1.Особенности художественного язык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онацио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емые» (архитектура, скульптур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нтомима, танец, живопись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2. Способ существования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ые (архитектура, изобразительное искусств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реме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о-временные (балет, театр, кин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06:46:15Z</dcterms:created>
  <dc:creator>xdemon</dc:creator>
  <dc:description/>
  <dc:language>en-US</dc:language>
  <cp:lastModifiedBy>Name</cp:lastModifiedBy>
  <dcterms:modified xsi:type="dcterms:W3CDTF">2011-02-03T12:41:49Z</dcterms:modified>
  <cp:revision>3</cp:revision>
  <dc:subject/>
  <dc:title>Основы теории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50000000000010243000207f6000400038000</vt:lpwstr>
  </property>
</Properties>
</file>